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5C5-1A30-4858-8B1D-ACE75282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9BE-1460-409E-8D92-FE6DAE2D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05C-A6B7-4960-B495-51413407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0FD-9F83-4601-95C4-389B74C8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E80-DE41-4AA8-8411-2ADA49DE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E2D-DDDA-4777-9106-2C8FD695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B01-08FC-4C94-B53C-1087C7FE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6CA-90F7-4464-95DF-8D78856B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C32-DC42-4EC5-BE43-7407B14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D0B-1758-43DB-B127-0579D981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172-8B4F-4D62-9E9D-D02209B2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02A-9930-40F6-B535-5D9E08E9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3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e1629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e1629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e1629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0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e1629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84D0-46BA-4097-AAD1-2A8BC7E1E6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e1629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e1629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7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e1629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e1629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e1629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68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От сломанного к целому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минар “Встреча с Богом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ятая сесс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495680"/>
            <a:ext cx="74678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Упражнение прощени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гайтесь дальше по ступеням исцеления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при этом вы вспомните еще о чем-то, что необходимо исповедать или простить, остановитесь и сделайте эт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ейчас у вас нет времени прощать всех людей за все обиды, нанесенные вам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Господь в последующие дни будет напоминать вам различные ситуации или людей, уделяйте время для того, чтобы простит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Краткое свидетельство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след за которым будут названы возможные сферы угнете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Возможные сферы угнетения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лубокая обид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не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е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ржен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удач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изкая самооценка или чувство неполноцен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диночеств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решитель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а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мнен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унтарств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хо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вращен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61736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Помните, Христос предлагает..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вобождение от непро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остность вместо сломлен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крашение вместо пепла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лей радости вместо слез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авную одежду вместо унылого духа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аия 61: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4191120"/>
            <a:ext cx="7467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Жизнь в падшем мире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очно также как Иосиф в Ветхом Завете, мы живем в падшем, несправедливом мир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увство одиночест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корбл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смешки и несправедливо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иды и причинение оби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семье, на работе, в отношениях с друзьям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2057400"/>
          <a:ext cx="38098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3809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Боль и раны порождают...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диночество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рженност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проще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ах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не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4120" y="1981080"/>
          <a:ext cx="32004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981080"/>
                    <a:ext cx="3200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Иисус был изранен ради нашего исцелени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3520" y="26668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 Он изъязвлен был за грехи наши и мучим за беззакония наши; наказание мира нашего было на Нем, и ранами Его мы исцелились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аия 53:5        </a:t>
            </a:r>
            <a:r>
              <a:rPr b="1" lang="en-US" sz="2800" spc="-1" strike="noStrike">
                <a:solidFill>
                  <a:srgbClr val="1e2e53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Его победа предлагает нам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вобождение от непро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остность вместо сломлен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крашение вместо пепла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лей радости вместо слез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авную одежду вместо унылого духа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аия 61: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Наша задача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щать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стить значит “высвободить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действие во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зять боль на себ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щение и доверие — это не одно и то ж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верие зачастую приходится строить заново, а прощать мы можем всегд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прощаем ради самих же себ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г всегда готов помочь нам простит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Бог повелевает нам прощать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когда стоите на молитве, прощайте, если что имеете на кого, дабы и Отец ваш Небесный простил вам согрешения ваш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Иисус, Марка 11:2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прости нам грехи наши, ибо и мы прощаем всякому должнику нашему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Луки 11: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о будьте друг ко другу добры, сострадательны, прощайте друг друга, как и Бог во Христе простил вас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Ефесянам 4:3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Упражнение прощени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левой колонке впишите ИМЕНА людей, которых вам нужно простит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ишите ОБИДЫ, причиненные вам, в средней колонк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правой колонке опишите ЧУВСТВА, пережитые ва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делите этому несколько минут прямо СЕЙЧАС. Затем я вам дам дальнейшие указания по выполнению этого упражн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Упражнение прощени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сочтете полезным, вы можете поговорить с вашим партнером об этих вещах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прежде чем начнете молитьс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литесь: Отец Небесный, я прощаю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имя человека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за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такие-то обиды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которые заставили меня переживать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такие-то эмоции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SzPct val="7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д этим или после исповедайте любой грех, совершенный вами в этих взаимоотношения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4T21:05:14Z</dcterms:created>
  <dc:creator>Jim Egli</dc:creator>
  <dc:description/>
  <dc:language>en-US</dc:language>
  <cp:lastModifiedBy>Andrey</cp:lastModifiedBy>
  <dcterms:modified xsi:type="dcterms:W3CDTF">2002-12-21T15:45:48Z</dcterms:modified>
  <cp:revision>27</cp:revision>
  <dc:subject/>
  <dc:title>From Broken to Whole</dc:title>
</cp:coreProperties>
</file>